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622A-74A8-4C27-A0AB-A38725431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esian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2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lot of axis and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have a certain set of coordin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, 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of how to plo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, 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X so it is 4 along the X 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= Y so it is 5 upwards the Y 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where these two points m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MX +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trying to find Y by using this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X stands for the slope which will be explained later in this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 stands for the Y intercept which you will need to know how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explan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each step with class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’s 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530B-F556-47DE-B84D-3BE84A49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E865-3A8F-40C2-B877-B96EDB68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EC46-BBBA-4A77-839D-6449D9E1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EF16-4CA4-4460-AC53-4D5DA6DA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9378-2675-4192-AFED-89545E77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B98E-4CFF-4694-952E-AE143A46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3C2C-A0B1-4CE6-AE05-126BDD2E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3948-0BEC-46F1-8205-E08F9F82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30CE-9FA1-473D-B6DD-B81B5DCE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6671-F7DD-4577-AA4E-13D7DAA2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E2C1-DF56-448F-9888-1CF8AB34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9E88-6241-496E-B630-6AA71E99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8565-8A95-42B3-9CF2-400F2D9F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BDEB-00F0-4B5D-8F09-B8214C4D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BE17-8D2B-4C49-B8A2-2436B31F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52EE-B056-467E-96DE-71CC0019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32DA-6347-4757-B5C5-F6B24093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E0F6-86B1-4C1F-8B24-97079812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7151-0700-4185-9B40-348D0FB9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9E85-0499-49C9-A923-83E5CB51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5D48-362D-4EA4-9E9D-CF81B033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C7D8-B850-477B-87B8-D0E1A307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6045-522B-4E99-B90E-1CE4187D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5BE2-7C29-4403-B9D0-BCDEF14B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50B7-523A-4ABC-9892-8F3FFBC04E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8D13-ABD5-43B9-B167-4F8BDE5FCC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athsteacher.com.au/year7/ch15_linear/02_cartesian/plane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Graphing and interpreting points, lines and functions.</a:t>
            </a:r>
            <a:r>
              <a:rPr b="0" lang="en-US" sz="4800" spc="-1" strike="noStrike" u="sng">
                <a:solidFill>
                  <a:srgbClr val="ccecff"/>
                </a:solidFill>
                <a:uFillTx/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2895480" y="55627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Ben Madeley, Tom Heinrich, James Pardon, Patryk Urb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666880" y="1905120"/>
            <a:ext cx="3100680" cy="2990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8ae8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rtesian Pla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ndless 2-Dimensional plane with a set of axis to plot and graph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otting Poi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points on the Cartesian plane have a set of coordinates. E.g.: 5,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124080" y="2742840"/>
            <a:ext cx="152424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5333760" y="2666880"/>
            <a:ext cx="60948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4343400"/>
            <a:ext cx="2590920" cy="228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first number sh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far to the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 right on the Cartesi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e the point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3809880"/>
            <a:ext cx="3200400" cy="2438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econd number shows 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far up or down on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tesian plane the point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37400" cy="6858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0" name=""/>
          <p:cNvSpPr/>
          <p:nvPr/>
        </p:nvSpPr>
        <p:spPr>
          <a:xfrm>
            <a:off x="7010280" y="380880"/>
            <a:ext cx="1905120" cy="60962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how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a poi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quation Of A L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 = MX +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5714640" y="2209680"/>
            <a:ext cx="30492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666880" y="2133360"/>
            <a:ext cx="198144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3600" y="3429000"/>
            <a:ext cx="1219320" cy="5335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inter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20832600">
            <a:off x="1980720" y="3809880"/>
            <a:ext cx="1219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286000" y="2133720"/>
            <a:ext cx="13716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133720"/>
            <a:ext cx="1447920" cy="1143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 we 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ing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derstanding the equ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2133720"/>
            <a:ext cx="213336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562720" y="1371600"/>
            <a:ext cx="228600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4191120"/>
            <a:ext cx="2819520" cy="1828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slope goes left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ght in a downwar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tion the M will be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gative nume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5880" y="3657600"/>
            <a:ext cx="2743200" cy="2209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slope goes left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ght in an upwar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tion the M will be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ve nume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371600" y="3048120"/>
            <a:ext cx="30492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6858000" y="2590920"/>
            <a:ext cx="83808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derstanding part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oints and slope are giv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 = -4 (2,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 = MX + 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 = -4X + 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 = -4(2) + 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 = -8 + 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+8 = 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 = 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 = -4X + 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oints are giv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3,2) (6,1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ope = y2 – y1/ x2 – x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11 – 2) / (6 – 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= 9/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 = 3X + 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 = 3(3) + 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 = 9+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9 = 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7 = 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 = 3X -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X and Y intercep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cepts are where the line on the Cartesian plane crosses o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342900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586728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66680" y="4038480"/>
            <a:ext cx="2438640" cy="213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5791320"/>
            <a:ext cx="7632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4267080"/>
            <a:ext cx="76320" cy="152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1600200" y="3962520"/>
            <a:ext cx="4572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2971800"/>
            <a:ext cx="2971800" cy="1143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inter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4267080"/>
            <a:ext cx="2971800" cy="1143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inter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3276360" y="5181480"/>
            <a:ext cx="23619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22:17:49Z</dcterms:created>
  <dc:creator>Ben M</dc:creator>
  <dc:description/>
  <dc:language>en-US</dc:language>
  <cp:lastModifiedBy>Ben M</cp:lastModifiedBy>
  <dcterms:modified xsi:type="dcterms:W3CDTF">2008-02-18T02:00:07Z</dcterms:modified>
  <cp:revision>28</cp:revision>
  <dc:subject/>
  <dc:title>Graphing and interpreting points, lines and functions. </dc:title>
</cp:coreProperties>
</file>